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3FEAE-EEF5-4739-A421-335A3AED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6E678-791C-4B99-A8B8-9604208D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9D2F2-F688-475D-B9FF-69314D57A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1E86C-00D4-4CAE-8F10-0459A0CF2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99EC9-144A-43F4-98F2-7298ADE4B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3266D-17F0-4338-9346-5403E210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85952-1BC6-4E32-B8D4-5483F604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67E5-28DE-4DAF-90BD-D54104988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0A7E4-D264-4287-9C72-3559058F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1A9A-5B31-4266-9778-E2641D07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53D1-C86C-4156-89B5-36500F3D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96C8-02B3-4EB5-8D96-B5FC50737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EDB5-B814-4841-8099-7047C4689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 name=""/>
          <p:cNvSpPr/>
          <p:nvPr/>
        </p:nvSpPr>
        <p:spPr>
          <a:xfrm>
            <a:off x="0" y="0"/>
            <a:ext cx="9144000" cy="703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andom Masters Presents</a:t>
            </a:r>
            <a:endParaRPr b="0" lang="en-US" sz="36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Salamander OVA #2-3</a:t>
            </a:r>
            <a:endParaRPr b="0" lang="en-US" sz="7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rsion 1.0</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btitled from Laserdisc catalog numbers G78F0307 &amp; G780313</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stered for Roger Huyn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
          <p:cNvSpPr/>
          <p:nvPr/>
        </p:nvSpPr>
        <p:spPr>
          <a:xfrm>
            <a:off x="0" y="0"/>
            <a:ext cx="9144000" cy="6963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OVA #2 is a prequel to OVA #1. There has been some confusion about this because there was a non-Japanese release of Salamander whereby the company released this OVA (Basic Saga) BEFORE OVA #1 and then renamed OVA #1 “Intermediate Saga.” This is simply incorrect. While OVA #2 is a prequel to the first OVA, it was made AFTER the first OVA.</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fter OVA #2 there is “Salamander Digest” which is a recap of the first OVA. It is not subtitl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A #3 contains commericals for the arcade game Gradius II: Gofer’s Ambitions. This game was also released on the famicon in Japan. A Nintendo US release was planned, but Konami thought it was too hard for American players. I think it’s freaky hard! If you want, you’ll be able to find ROMs of it quite easily. The Japanese title is “Gofer no Yabou”. Notice that OVA 1 was about Salamander, 2 is about Gradius, and 3 is about Gradius II. ^_^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
          <p:cNvSpPr/>
          <p:nvPr/>
        </p:nvSpPr>
        <p:spPr>
          <a:xfrm>
            <a:off x="0" y="0"/>
            <a:ext cx="9144000" cy="6414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If you happen to own a Sega Saturn and can play imports, you can buy the Salamander Deluxe Pack Plus, released in Japan. It contains arcade ports of Salamander, Life Force, and Salamander 2. Life Force was indeed also an arcade rerelease of Salamander with some thing changed slightly. I prefer the original. Life Force on the Nintendo in the USA was a conversion of Salamander.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
          <p:cNvSpPr/>
          <p:nvPr/>
        </p:nvSpPr>
        <p:spPr>
          <a:xfrm>
            <a:off x="0" y="0"/>
            <a:ext cx="9144000" cy="5912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ile they are over a decade out of print now, here are the CD soundtracks for these OV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A #2 K30X 7148</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A #3 K30X 7149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ANKS FOR WATCHIN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9144000" cy="7318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21:09:25Z</dcterms:created>
  <dc:creator>Jonathan Hertzog</dc:creator>
  <dc:description/>
  <dc:language>en-US</dc:language>
  <cp:lastModifiedBy>Jonathan Hertzog</cp:lastModifiedBy>
  <dcterms:modified xsi:type="dcterms:W3CDTF">2002-10-27T02:55:38Z</dcterms:modified>
  <cp:revision>4</cp:revision>
  <dc:subject/>
  <dc:title>No Slide Title</dc:title>
</cp:coreProperties>
</file>